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087B-232B-4659-A9FC-3F4E6ABF4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4093-9401-4458-93D3-434D6FC36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0925-B705-4F48-B364-0DCC1A890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94DB-AE3A-4250-9EFE-2D25DF9EF4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697A-9386-4BCF-B467-B9A72AA47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B743-34C4-48E2-B624-6E66F243F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ED8D-A7D5-4D7E-BDCA-B076F5DDA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9EA4-FB2A-4243-8F5F-83E3FB9D2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F14B-9BE9-4A13-95D3-90E096BC2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A049-8692-48C7-B790-5EDBB04DD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3165-29DE-48C9-886D-3FA3D4CC4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60B-5CEF-42C1-986D-4C7069889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5F3DD1BF-00FC-4F9D-82B4-454C669785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.3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76136D62-C1B0-455C-AE73-83B0E1788F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26000" y="409104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Il y en a combien, un sur cent qui finit professionnel. Pourquoi ce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serait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lu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DAC3_p280"/>
          <p:cNvPicPr/>
          <p:nvPr/>
        </p:nvPicPr>
        <p:blipFill>
          <a:blip r:embed="rId1"/>
          <a:stretch/>
        </p:blipFill>
        <p:spPr>
          <a:xfrm>
            <a:off x="615960" y="1805040"/>
            <a:ext cx="3956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8A5E1928-026B-4F8F-B6D3-07C2A061D5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 a clause af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 cas o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Note that English uses the indicative for these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3106800"/>
          <a:ext cx="8229600" cy="169380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ortez de l’argen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as 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ore des tickets à vendr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g some money in case there are still tickets for sal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mettrai des basket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as où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ed au vernissag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ll wear sneakers in case we go to the art opening on foo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D6E854B5-B933-467E-859F-489B99B619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express uncertainty about a 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2938320"/>
          <a:ext cx="8229600" cy="201456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201456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on le journal, 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de 100 parcs d’attractions au Texa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rding to the newspaper, there are more than 100 amusement parks in Texa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film dit que nous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le temps de sauver la planèt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ovie is saying that we don’t have any more time to save the plane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EC36080D-9455-41A9-9548-647EA868B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sometimes in the context of the past to indicate what was to happen in the future. This usag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ture in the p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3200400"/>
          <a:ext cx="8229600" cy="2011320"/>
        </p:xfrm>
        <a:graphic>
          <a:graphicData uri="http://schemas.openxmlformats.org/drawingml/2006/table">
            <a:tbl>
              <a:tblPr/>
              <a:tblGrid>
                <a:gridCol w="4343400"/>
                <a:gridCol w="388620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épé a dit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ête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95e anniversaire dans un parc d’attraction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mps said he would celebrate his 95th birthday at an amusement par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pensais que mama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 affaires dans ma chambre, mais elle les a mises dehor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thought Mom would put my things in my room, but she put them outsid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663B653A-3E14-42A4-BC00-F9E457769E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23960" y="1571760"/>
          <a:ext cx="7696080" cy="2847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4228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dicate that an event was going to happen in the past, you can also use the ver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 an infinitiv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9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LeFloch a dit qu’il allait bavarder avec un ami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. LeFloch said he was going to chat with a friend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A68B8AAC-8984-4A3F-88B9-8D73646680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contrary-to-fact statements about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 happ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mething el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re to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3106800"/>
          <a:ext cx="8381880" cy="1692360"/>
        </p:xfrm>
        <a:graphic>
          <a:graphicData uri="http://schemas.openxmlformats.org/drawingml/2006/table">
            <a:tbl>
              <a:tblPr/>
              <a:tblGrid>
                <a:gridCol w="4114800"/>
                <a:gridCol w="426708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i, 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baskets pour aller me promener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 were you, I would put on sneakers to take a wal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iver avant l’ouvertur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an-Yv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s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queue pour no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could arrive before the opening if Jean-Yves stood in line for 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86A584B7-CAEE-4474-9D4E-0C9985F146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soften a request, to indicate that a statement might be contrary to reality, or to show that an action was going to happen at some point in the past. It is often translated into Englis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073F5888-759C-409D-9BC0-F1B3197984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rmed with the same stems a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endings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ame as those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6"/>
          <p:cNvSpPr/>
          <p:nvPr/>
        </p:nvSpPr>
        <p:spPr>
          <a:xfrm>
            <a:off x="685800" y="2819520"/>
            <a:ext cx="7696080" cy="196992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7"/>
          <p:cNvSpPr/>
          <p:nvPr/>
        </p:nvSpPr>
        <p:spPr>
          <a:xfrm>
            <a:off x="685800" y="3886200"/>
            <a:ext cx="7696080" cy="2525760"/>
          </a:xfrm>
          <a:prstGeom prst="roundRect">
            <a:avLst>
              <a:gd name="adj" fmla="val 14329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685800" y="3276720"/>
            <a:ext cx="7696080" cy="129528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3276720"/>
          <a:ext cx="7696080" cy="313668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457200">
                <a:tc>
                  <a:txBody>
                    <a:bodyPr lIns="32004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004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  <a:tc>
                  <a:txBody>
                    <a:bodyPr lIns="137160" rIns="90000" tIns="46800" bIns="46800" anchor="ctr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716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5da9"/>
                      </a:solidFill>
                    </a:lnB>
                    <a:noFill/>
                  </a:tcPr>
                </a:tc>
              </a:tr>
              <a:tr h="2679480"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/j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37160" rIns="90000" tIns="9144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e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ai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716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 w="13680">
                      <a:solidFill>
                        <a:srgbClr val="005da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72"/>
          <p:cNvSpPr/>
          <p:nvPr/>
        </p:nvSpPr>
        <p:spPr>
          <a:xfrm>
            <a:off x="2629080" y="2841480"/>
            <a:ext cx="4227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of regular verb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89B89700-9EDF-4C5E-8D5F-5C7B5833FE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ith spelling changes in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 have the same changes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1" descr="p101"/>
          <p:cNvPicPr/>
          <p:nvPr/>
        </p:nvPicPr>
        <p:blipFill>
          <a:blip r:embed="rId1"/>
          <a:stretch/>
        </p:blipFill>
        <p:spPr>
          <a:xfrm>
            <a:off x="3429000" y="3124080"/>
            <a:ext cx="6094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533520" y="2768760"/>
          <a:ext cx="7696080" cy="2565360"/>
        </p:xfrm>
        <a:graphic>
          <a:graphicData uri="http://schemas.openxmlformats.org/drawingml/2006/table">
            <a:tbl>
              <a:tblPr/>
              <a:tblGrid>
                <a:gridCol w="3581280"/>
                <a:gridCol w="4114800"/>
              </a:tblGrid>
              <a:tr h="256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t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18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t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79CD7665-3AE2-491C-80E3-D4A5A09CB6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that have an irregular stem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he same stem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817720"/>
          <a:ext cx="8229600" cy="1371600"/>
        </p:xfrm>
        <a:graphic>
          <a:graphicData uri="http://schemas.openxmlformats.org/drawingml/2006/table">
            <a:tbl>
              <a:tblPr/>
              <a:tblGrid>
                <a:gridCol w="4419360"/>
                <a:gridCol w="38102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cinéma s’il y avai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films intéressants à voir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ould go to the cinema if there were interesting movies to se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est-ce que 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a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toi, dans les circonstances actuelles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uld you do under the present circumstances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50AEBC68-86C1-4FB6-B866-5B8BD49DC0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960" y="1571760"/>
          <a:ext cx="7696080" cy="391464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572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50892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the English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translated with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ne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o express ongoing or habitual actions in the past in French, use th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fai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é parlait souvent de son enfanc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ps would (used to) talk often about his childhood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pé parlerait de son enfance s’il était là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ps would talk about his childhood if he were here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F9D5505B-A061-4527-802C-7C8194AE8A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hypothetical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360520"/>
          <a:ext cx="8229600" cy="1371600"/>
        </p:xfrm>
        <a:graphic>
          <a:graphicData uri="http://schemas.openxmlformats.org/drawingml/2006/table">
            <a:tbl>
              <a:tblPr/>
              <a:tblGrid>
                <a:gridCol w="4496040"/>
                <a:gridCol w="373356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iez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r à cinq heur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could come at 5 o’cloc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jour, 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me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ter les Seychell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day, I’d like to visit the Seychelle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0BB07969-2E2A-462D-99FD-BA3BE0D3D8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ypothetical aspect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n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useful in polite requests and propositions. The verbs most often used in phrases of this typ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v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lo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3371760"/>
          <a:ext cx="8763120" cy="2171880"/>
        </p:xfrm>
        <a:graphic>
          <a:graphicData uri="http://schemas.openxmlformats.org/drawingml/2006/table">
            <a:tbl>
              <a:tblPr/>
              <a:tblGrid>
                <a:gridCol w="4952880"/>
                <a:gridCol w="3810240"/>
              </a:tblGrid>
              <a:tr h="21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meri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poser des questions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ould like to ask you some questions. 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-ce que 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ler à Bertrand?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I speak to Bertrand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drai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 un toast.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would like to make a toast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don, monsieur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iez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vous l’heure, s’il vous plaît?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don, sir, would you have the time, please?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-</a:t>
            </a:r>
            <a:fld id="{7F7D810F-0BA2-4C92-8B27-B9A7C2A83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for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 infinitive tell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. Conditional for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u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 infinitive tell w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3198960"/>
          <a:ext cx="8763120" cy="1371600"/>
        </p:xfrm>
        <a:graphic>
          <a:graphicData uri="http://schemas.openxmlformats.org/drawingml/2006/table">
            <a:tbl>
              <a:tblPr/>
              <a:tblGrid>
                <a:gridCol w="4343400"/>
                <a:gridCol w="441972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rais sort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s souvent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c no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should go out more often with us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it pass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atinée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parc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9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could spend the morning at the park.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nditionn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3-31T13:55:02Z</dcterms:modified>
  <cp:revision>210</cp:revision>
  <dc:subject>D'accord! 3 • Leçon 8: S’évader et s’amuser</dc:subject>
  <dc:title>8.3 The conditionnel</dc:title>
</cp:coreProperties>
</file>